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55A-925B-44D3-98BE-26C759DF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4B2-EE17-4552-B62F-EF5D4644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AAB1-1A60-46E4-B8C4-970BBD8C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A9F0-F024-48AC-B809-BB67A61B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D885-DE17-4E10-BD2C-5FF53764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35CB-88F5-4DA5-B69B-3BE67C60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80B9-59F5-483E-8EAF-D6FBEE7E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B9D3-DAE0-4349-81DF-909C538C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E861-F236-4005-A83A-E62AB20C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61E6-A7DB-4559-84A2-0C043842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63F3-AAE5-4564-BA44-3CFF5229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4174-F748-4922-8792-6BC650C5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FEA5-C7EF-4BFD-AF68-4E4CB6CF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4C6E-FA68-4D76-93D2-44725353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5660-30D9-4127-9857-2EB10F91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5090-402F-4274-B81E-BFC9E7FD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0CBC-2CA6-4E5C-A572-54C351B2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196-7D6E-4DEB-9B36-1563AE83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3A6-2AF7-4C2B-A720-55624166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C525-4E78-4FD5-B15A-FA668997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0573-C5A7-40B4-80DB-FF267184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F22-32E7-4195-9DE1-9BBF1C21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4FA-389A-48B8-8A3D-B2C5B3A6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B1E-8CB4-425F-902E-C64F52C9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99bfb"/>
                </a:gs>
                <a:gs pos="50000">
                  <a:srgbClr val="ffffff"/>
                </a:gs>
                <a:gs pos="100000">
                  <a:srgbClr val="a99b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99bfb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99bfb"/>
                </a:gs>
                <a:gs pos="50000">
                  <a:srgbClr val="ffffff"/>
                </a:gs>
                <a:gs pos="100000">
                  <a:srgbClr val="a99b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99bfb"/>
                </a:gs>
                <a:gs pos="50000">
                  <a:srgbClr val="ffffff"/>
                </a:gs>
                <a:gs pos="100000">
                  <a:srgbClr val="a99b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99bfb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99bfb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99bfb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EA73-B3A8-4A30-9A2A-AEBC8A020D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99bfb"/>
                </a:gs>
                <a:gs pos="50000">
                  <a:srgbClr val="ffffff"/>
                </a:gs>
                <a:gs pos="100000">
                  <a:srgbClr val="a99b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99bfb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99bfb"/>
                </a:gs>
                <a:gs pos="50000">
                  <a:srgbClr val="ffffff"/>
                </a:gs>
                <a:gs pos="100000">
                  <a:srgbClr val="a99b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99bfb"/>
                </a:gs>
                <a:gs pos="50000">
                  <a:srgbClr val="ffffff"/>
                </a:gs>
                <a:gs pos="100000">
                  <a:srgbClr val="a99b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99bfb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99bfb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99bfb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A271-3233-4916-9BA2-7A207C787D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cript MT Bold"/>
              </a:rPr>
              <a:t>Анализ работы МКОУ «Ушакинская СОШ №1»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Script MT Bold"/>
              </a:rPr>
              <a:t>за 2013 – 2014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IMG_0567"/>
          <p:cNvPicPr/>
          <p:nvPr/>
        </p:nvPicPr>
        <p:blipFill>
          <a:blip r:embed="rId1"/>
          <a:srcRect l="0" t="7249" r="0" b="10574"/>
          <a:stretch/>
        </p:blipFill>
        <p:spPr>
          <a:xfrm>
            <a:off x="195120" y="1992240"/>
            <a:ext cx="8694720" cy="4599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казатели успешности обучения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 класс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6720" y="1828800"/>
          <a:ext cx="8261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1828800"/>
                    <a:ext cx="8261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ши уч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ник   народного образования                      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тный работник общего образования  РФ      1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раждены грамотой Министерства образования и науки РФ                                                      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раждены грамотой КОПО ЛО                         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раждены грамотой Главы МО Тосненский район ЛО                                                            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раждены грамотой Комитета образования Тосненского района                                           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дровый соста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09480" y="137160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зо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73200" y="1601640"/>
          <a:ext cx="7950240" cy="45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1601640"/>
                    <a:ext cx="795024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витие кадрового потенци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13 – 2014 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место в районном этапе конкурса «Классный, самый классн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читель Данилова Т.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ение педагогического опыта на Всероссийском фестивале «Открытый уро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читель Михайлова Г.М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ное участие во  Всероссийских дистанционных конкурсах (учитель Слесарева Т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ие во Всероссийской олимпиаде школьников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муниципальный урове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79280" y="1981080"/>
          <a:ext cx="8836200" cy="4440240"/>
        </p:xfrm>
        <a:graphic>
          <a:graphicData uri="http://schemas.openxmlformats.org/drawingml/2006/table">
            <a:tbl>
              <a:tblPr/>
              <a:tblGrid>
                <a:gridCol w="2335320"/>
                <a:gridCol w="1819440"/>
                <a:gridCol w="2592360"/>
                <a:gridCol w="2089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ающие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, подготовивший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. язы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из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жиян Ангел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 класс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ылева Н.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приз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ге Мария (11 к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онова Владислава (10 к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овьева Кристина (10 к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илова Т.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з 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из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акова Юл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 к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о Т.Ф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ЕДЕНИЯ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 количестве детей, участвовавших в пропедевтических олимпиада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по предметам в 2012 – 2013 учебном го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Международная игра-конкурс "Русский медвежонок - языкознание для всех 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9ч. - 7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Международный математический конкурс «Кенгуру» - 115ч - 7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Игровой конкурс «Британский бульдог» - 85ч - 4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Всероссийский игровой конкурс по естествознанию «Человек и природа» - 82ч - 4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Всероссийская олимпиада по предметам «Олимпус» - 89 ч. – 94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зультаты участ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овой конкурс «Британский бульдо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джиян Ангелина – 1 место в райо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 место в реги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духова Елизавета – 3 место в рай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хова Татьяна – 3 место в рай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джиян Сергей – 3 место в рай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ый математический конкурс «Кенгур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ксеева Валерия – 3 место в рай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джиян Ангелина  -  1 место в рай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духова Елизавета – 3 место в рай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джиян Сергей – 1 место в рай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зультаты учас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российский игровой конкурс по естествознанию «Человек и приро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дронова Виктория – 2 место в рай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российская олимпиада по русскому языку «Олимпу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нравин Дмитрий – 3 место в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российские дистанционные конкурсы сочинений (победите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дронова Вик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кова Оль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ина Тать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духова Елиза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апченкова Елиза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ьцова И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хранение и укрепление здоровья школьник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оритетное внимание в вопросе сохранения и укрепления здоровья обучающихся  уделяется прохождению обязательных медицинских осмо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общеобразовательном учреждении созданы условия для предоставления горячего питания . 40  обучающихся получают бесплатное и льготное питание;  150  обучающихся питаются за счет родительских сред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жедневно обучающиеся начальных классов получают  0,2 л. мол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и в 2013 – 2014 учебном год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ить государственные гарантии доступности получения обучающимися обще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ть  оптимальные условия для поэтапного перехода на новый Федеральный государственный образовательный стандарт основного общего образования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ать организационно – методическое обеспечение мониторинга внутришкольной системы оценки качества  образования, индивидуальных достижений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ствовать систему  воспитательной работы в соответствии с реализацией Программы развития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ствовать систему корпоративного обучения и взаимной методической работы для развития профессионального потенциала педагога. Стимулировать саморазвития педагогов в различных обла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ть  условия, способствующие оптимальному развитию творческого потенциала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ть потребности к здоровому образу жизни школьнико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 основ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дорового  жизненного стиля обучающихся, воспитанников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 услов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социально-психологической адап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хранять и укреплять материально-техническую базу шко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хранение и укрепление здоровья 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рамках развития конкурсного движения  по сохранению и укреплению здоровья школьников в 2013 году образовательное учреждение приняло участ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айонный конкурс на лучшую организацию школьного питания (победитель районного конкурса МКОУ «Ушакинская СОШ №1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айонный конкурс «Мы выбираем…»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айонная акция «Неделя здоровья»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айонная акция «Спорт – альтернатива пагубным привычкам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айонная спортивно-туристская патриотическая игра «Зарница»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школьные и районные соревнования по легкой атлетике, футболу, баскетболу, волейболу, стритболу,  плаванию, лыжным гон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занятий физической культурой и спортом в 2013 году в рамках модернизации общего образования силами трудовой бригады построена волейбольная площа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кабре 2013 года проведено анонимное тестирование обучающихся на предмет употребления наркотических веществ. Участие в тестировании приняли обучающиеся 5-11-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хранение и укрепление здоровья 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громное внимание  уделяется вопросам реализации программы «Лет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на базе школы функционирует летний оздоровительный лагерь «Тропинка» - охват обучающихся – 45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2014 году  работал в две смены (июнь, ию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удовая бригада – охват обучающихся – 10 человек (обучающиеся, достигшие возраста 14 л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тняя трудовая практика на пришкольном участке – обучающиеся 4 – 8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зультаты медицинского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филактического осмо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8000" y="1981080"/>
          <a:ext cx="8856720" cy="4114800"/>
        </p:xfrm>
        <a:graphic>
          <a:graphicData uri="http://schemas.openxmlformats.org/drawingml/2006/table">
            <a:tbl>
              <a:tblPr/>
              <a:tblGrid>
                <a:gridCol w="1079280"/>
                <a:gridCol w="2592720"/>
                <a:gridCol w="1728720"/>
                <a:gridCol w="1727280"/>
                <a:gridCol w="17287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инг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ь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ь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ь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ающие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ающие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стижения школ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2013 г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 место в районном этапе конкурса «Классный, самый классн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читель Данилова Т.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место в районном конкурсе «Лучший летний оздоровительный лагер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 место  в районном конкурсе «Лучшая пришкольная территория»(70,0 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место в районном конкурсе на лучшую  организацию школьного питания (30,0 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место в районных спортивных юношеских иг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плом администрации МО Тосненский район Ленинградской области за подготовку школы к новому 2013-2014 учебному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етный диплом главы МО Тосненский район Ленинградской области за плодотворную работу по созданию комфортной образовательной среды в учреждении и по итогам работы за 201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63640" y="6540480"/>
            <a:ext cx="456228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педсо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инновационной деятельности как базиса для совершенствования содержания образования и повышения качества образовательных усл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олжить работу по созданию    поэтапного перехода на новый Федеральный государственный образовательный стандарт основного обще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ершенствовать систему воспитательной работы в соответствии с   воспитательной компонентой Федеральных государственных станда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ть  условия, способствующие оптимальному развитию творческого потенциала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ть у обучающихся потребность к здоровому образу жиз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хранять и укреплять материально-техническую базу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ть у обучающихся потребность к здоровому образу жиз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хранять и укреплять материально-техническую базу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114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Monotype Corsiva"/>
              </a:rPr>
              <a:t>Если жизнь дарит людям трудност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Monotype Corsiva"/>
              </a:rPr>
              <a:t>Значит нужный даётся ур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Monotype Corsiva"/>
              </a:rPr>
              <a:t> – </a:t>
            </a:r>
            <a:r>
              <a:rPr b="0" i="1" lang="en-US" sz="4000" spc="-1" strike="noStrike">
                <a:solidFill>
                  <a:srgbClr val="000099"/>
                </a:solidFill>
                <a:latin typeface="Monotype Corsiva"/>
              </a:rPr>
              <a:t>Черпать знанье из чаши мудрост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Monotype Corsiva"/>
              </a:rPr>
              <a:t>Значит опыту – новый срок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Monotype Corsiva"/>
              </a:rPr>
              <a:t>В постоянных преодол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Monotype Corsiva"/>
              </a:rPr>
              <a:t>За ступенью рубим ступ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Monotype Corsiva"/>
              </a:rPr>
              <a:t>И по лестнице восхожден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Monotype Corsiva"/>
              </a:rPr>
              <a:t>Поднимаемся каждый д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казатели успеваемости в 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39800" y="1600200"/>
          <a:ext cx="785340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1600200"/>
                    <a:ext cx="785340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зультаты государственной (итоговой) аттестации  2013 – 2014 учебн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47640" y="2185920"/>
          <a:ext cx="7861320" cy="40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2185920"/>
                    <a:ext cx="7861320" cy="40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зультаты государственной (итоговой) аттестации  2013 – 2014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30400" y="1943280"/>
          <a:ext cx="7377120" cy="44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943280"/>
                    <a:ext cx="737712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144440" y="1522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зультаты государственной (итоговой) аттестации  2013 – 2014 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меты по выб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09760" y="2527200"/>
          <a:ext cx="8173800" cy="36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2527200"/>
                    <a:ext cx="817380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зультаты государственной (итоговой) аттестации  2013 – 2014 учебный год. 9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30120" y="2184480"/>
          <a:ext cx="8418600" cy="41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2184480"/>
                    <a:ext cx="8418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зультаты государственной (итоговой) аттестации  2012 – 2013 учебный год. 9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71600" y="2209680"/>
          <a:ext cx="8074080" cy="42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2209680"/>
                    <a:ext cx="8074080" cy="42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казатели успешности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55800" y="1600200"/>
          <a:ext cx="72295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5800" y="1600200"/>
                    <a:ext cx="72295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2</cp:lastModifiedBy>
  <dcterms:modified xsi:type="dcterms:W3CDTF">2015-08-31T05:01:47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